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E02-289E-4DBE-944A-3D2AC1F2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D8B-FC7A-4ED3-8AAC-A494D786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8C9-3493-46A7-8612-3EED827F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74B-3926-4D63-B3D2-FBAF81E0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E59-9983-43F3-8A0B-C7AAD6A0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CE0-99BD-4784-90EE-72C818A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C1E-AA7B-478E-A43B-7D88675C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D1B-BFF2-41B0-A9AB-D4A88BC3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345-5423-46F7-B22E-B547918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5A2-5E41-4941-A21C-3F98DDA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FBF-F9E5-4BB3-A34A-1C08FC18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CEB-0371-482A-ADAC-6D6A940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0F5-88A6-49BD-9CCB-55749F75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           Clase 6NH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2 de diciembre del 20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28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continuamos el repaso para el Examen #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vide y encierra el dipton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) Anzuel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) Cond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) Recuper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) Su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) Químic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)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) Repertor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9)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) Librerí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) Cons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1:55:41Z</dcterms:created>
  <dc:creator>Helen Zumaeta</dc:creator>
  <dc:description/>
  <dc:language>en-US</dc:language>
  <cp:lastModifiedBy>Helen Zumaeta</cp:lastModifiedBy>
  <dcterms:modified xsi:type="dcterms:W3CDTF">2011-12-12T15:47:20Z</dcterms:modified>
  <cp:revision>7</cp:revision>
  <dc:subject/>
  <dc:title>Me llamo __________ Clase 6NH La fecha es el 7 de diciembre del 2011</dc:title>
</cp:coreProperties>
</file>